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46240" y="-360"/>
            <a:ext cx="2941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-360"/>
            <a:ext cx="2941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1239480"/>
            <a:ext cx="446688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4680"/>
            <a:ext cx="542952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46240" y="9425160"/>
            <a:ext cx="29415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425160"/>
            <a:ext cx="2941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8F8-08B2-4A76-8AD4-DA48050BE53E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0640" y="1239840"/>
            <a:ext cx="4466880" cy="3349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74680"/>
            <a:ext cx="54295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מציין מיקום של מספר שקופית 3"/>
          <p:cNvSpPr/>
          <p:nvPr/>
        </p:nvSpPr>
        <p:spPr>
          <a:xfrm>
            <a:off x="1440" y="9425160"/>
            <a:ext cx="29419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9A5-438C-4144-AD5E-209BF968BFB0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F56-3FC3-47A2-93DD-01818595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38C-6453-4EA1-9502-E7C8C3AE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4FD-7054-478D-8F4E-AE4BDF1C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6E7-09A5-43C2-A8AB-BAC56AAA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1D2-CF41-4A37-86FF-2F24FBEF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DA6-ED57-4425-9D37-F037116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2AD-911D-4C6F-A8BF-B18DA635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DE-2799-4B6F-90DC-E72CDE98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C78-734E-4DD4-9B83-171EA43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D66-6C53-4A4F-9458-F2A5139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DE4-5B16-469F-96C6-BB44676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F23-E2A3-47D0-9AB4-9F120DC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C0D-FC05-4F95-AD00-0CEBBF7D3307}" type="datetime">
              <a:rPr b="0" lang="he-IL" sz="9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 </a:t>
            </a:r>
            <a:fld id="{6979C74F-61FC-4F4A-A579-CBD3AD34AACA}" type="datetime10">
              <a:rPr b="0" lang="he-IL" sz="900" spc="-1" strike="noStrike">
                <a:solidFill>
                  <a:srgbClr val="898989"/>
                </a:solidFill>
                <a:latin typeface="Calibri"/>
              </a:rPr>
              <a:t>12:03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יעדי המועצה </a:t>
            </a:r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2017</a:t>
            </a:r>
            <a:r>
              <a:rPr b="0" lang="he-IL" sz="900" spc="-1" strike="noStrike">
                <a:solidFill>
                  <a:srgbClr val="898989"/>
                </a:solidFill>
                <a:latin typeface="Calibri"/>
              </a:rPr>
              <a:t> ממשיכים בהמראה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EEC8-E597-44E5-8B07-C35E66866DFE}" type="slidenum">
              <a:rPr b="0" lang="he-I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0000" y="466560"/>
            <a:ext cx="2949480" cy="23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 Light"/>
              </a:rPr>
              <a:t>מועצה מקומית אבו גוש</a:t>
            </a:r>
            <a:br>
              <a:rPr sz="3200"/>
            </a:br>
            <a:r>
              <a:rPr b="1" lang="he-IL" sz="3200" spc="-1" strike="noStrike">
                <a:solidFill>
                  <a:srgbClr val="000000"/>
                </a:solidFill>
                <a:latin typeface="Calibri Light"/>
              </a:rPr>
              <a:t>תקציב לשנת </a:t>
            </a:r>
            <a:r>
              <a:rPr b="1" lang="he-IL" sz="3200" spc="-1" strike="noStrike">
                <a:solidFill>
                  <a:srgbClr val="000000"/>
                </a:solidFill>
                <a:latin typeface="Calibri Light"/>
              </a:rPr>
              <a:t>2017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0000" y="3271320"/>
            <a:ext cx="29494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תקציב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yoaview.com/Yoaview/SITE/userfiles/image/yoaView/Sites%20&amp;%20more/Center/Abu%20Gosh%20Mosqe/Abu%20Gosh%20New%20Mosque%2013.jpg"/>
          <p:cNvPicPr/>
          <p:nvPr/>
        </p:nvPicPr>
        <p:blipFill>
          <a:blip r:embed="rId1"/>
          <a:srcRect l="14345" t="0" r="14345" b="0"/>
          <a:stretch/>
        </p:blipFill>
        <p:spPr>
          <a:xfrm>
            <a:off x="3887640" y="987480"/>
            <a:ext cx="4629240" cy="4873680"/>
          </a:xfrm>
          <a:prstGeom prst="rect">
            <a:avLst/>
          </a:prstGeom>
          <a:ln w="0">
            <a:noFill/>
          </a:ln>
        </p:spPr>
      </p:pic>
      <p:pic>
        <p:nvPicPr>
          <p:cNvPr id="51" name="תמונה 4" descr=""/>
          <p:cNvPicPr/>
          <p:nvPr/>
        </p:nvPicPr>
        <p:blipFill>
          <a:blip r:embed="rId2"/>
          <a:stretch/>
        </p:blipFill>
        <p:spPr>
          <a:xfrm>
            <a:off x="1398600" y="4033800"/>
            <a:ext cx="1873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720" y="189000"/>
            <a:ext cx="4689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 Light"/>
                <a:cs typeface="Arial"/>
              </a:rPr>
              <a:t>מספר תקנים, כ"א מאויש- תשע"ז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 Light"/>
                <a:ea typeface="Arial"/>
              </a:rPr>
              <a:t>2016-2017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8000" y="907920"/>
          <a:ext cx="9001080" cy="5761080"/>
        </p:xfrm>
        <a:graphic>
          <a:graphicData uri="http://schemas.openxmlformats.org/drawingml/2006/table">
            <a:tbl>
              <a:tblPr/>
              <a:tblGrid>
                <a:gridCol w="2271600"/>
                <a:gridCol w="3525840"/>
                <a:gridCol w="2511360"/>
                <a:gridCol w="692280"/>
              </a:tblGrid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עובד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מס' תקנ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בעלי תפקיד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מס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אג'י מנסו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מחלק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ייסר סאל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זכירת מחלק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דיין לא מאוי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כזת גני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יד עבד אלרחמ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קב"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70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חמד סאפ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סא היאג'נה, אריג' נתשה, תמי , ראסם מוחס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שפ"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ואד אברה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היחידה לקידום נוע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'ואד אברה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בד קידום נוע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מל ג'ריי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כזת השכל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גריד ג'ב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ים עבד אלרחמ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עדונית משפחתית משותפ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618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מנהל , מורים , לבורנטים וספר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י"ס תיכון - מו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604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'ולוד, ח'יתאם, אנג'אם, איה, דלא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זכיר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9516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וראד, משה, נסים, סובחי, ג'מא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בי בי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זרו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304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ייעות חנ"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ייעות אישיות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ייעות מלוו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115920"/>
            <a:ext cx="620388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1800" spc="-1" strike="noStrike" u="sng">
                <a:solidFill>
                  <a:srgbClr val="000000"/>
                </a:solidFill>
                <a:uFillTx/>
                <a:latin typeface="Calibri Light"/>
                <a:cs typeface="Arial"/>
              </a:rPr>
              <a:t>התפלגות תלמידים במוסדות חינוך עפ"י שכבות גיל– תשע"ז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476280"/>
          <a:ext cx="8964720" cy="6535800"/>
        </p:xfrm>
        <a:graphic>
          <a:graphicData uri="http://schemas.openxmlformats.org/drawingml/2006/table">
            <a:tbl>
              <a:tblPr/>
              <a:tblGrid>
                <a:gridCol w="1246320"/>
                <a:gridCol w="1584360"/>
                <a:gridCol w="955440"/>
                <a:gridCol w="966960"/>
                <a:gridCol w="1036800"/>
                <a:gridCol w="934920"/>
                <a:gridCol w="900000"/>
                <a:gridCol w="628560"/>
                <a:gridCol w="711360"/>
              </a:tblGrid>
              <a:tr h="191880"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גמ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וג בית ספר וכמ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נ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ני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ס' תלמידי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ספר כית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כית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טרום 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ני טרום 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ני חוב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78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ינוך מיוח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ני חינוך מיוח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8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סודיי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+ כתה מקדמ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 + כתה מקדמ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92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טיבת ביניי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 -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 - 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יכו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גי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 - 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רמו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7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נ"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"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96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בנות- 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בנים-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תלמידים 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כית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r>
                        <a:rPr b="1" lang="he-I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כית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7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 Light"/>
                <a:cs typeface="David"/>
              </a:rPr>
              <a:t>המחלקה לשירותים חברתיים אבו גוש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ס' אוכלוסיה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850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תושבים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עיקר האוכלוסייה מוסלמית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ס' תיקים פעילים נכון ל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01/17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899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תיק 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ס' אוכלוסיה מטופלת –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2385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אחוז ילדים ונוער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3%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מסך האוכלוסייה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עמד סוציו אקונומי של הישוב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4423" t="33716" r="20610" b="17918"/>
          <a:stretch/>
        </p:blipFill>
        <p:spPr>
          <a:xfrm>
            <a:off x="714240" y="642960"/>
            <a:ext cx="6929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600" spc="-1" strike="noStrike" u="sng">
                <a:solidFill>
                  <a:srgbClr val="000000"/>
                </a:solidFill>
                <a:uFillTx/>
                <a:latin typeface="Calibri Light"/>
              </a:rPr>
              <a:t>חתך סטטיסטי מהיקף התיקים המטופלים ברווחה לתאריך 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Calibri Light"/>
              </a:rPr>
              <a:t>01/2017</a:t>
            </a:r>
            <a:r>
              <a:rPr b="1" lang="he-IL" sz="3600" spc="-1" strike="noStrike" u="sng">
                <a:solidFill>
                  <a:srgbClr val="000000"/>
                </a:solidFill>
                <a:uFillTx/>
                <a:latin typeface="Calibri Light"/>
              </a:rPr>
              <a:t> לפי מהויות נזקקות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בעיות הנובעות מרמת הכנסה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24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זקנה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6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בעיות בתפקוד הורי ובעיות בין הורים לילדים + אלימות במשפחה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2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נכויות ומוגבלוי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4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יגור שכלי ואוטיזם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בעיות אישי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חלות נפש מאובחנ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נערות ונוער בסיכון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תמכרויות ועבריינ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מחלקת תברוא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76" name="מציין מיקום תוכן 3" descr=""/>
          <p:cNvPicPr/>
          <p:nvPr/>
        </p:nvPicPr>
        <p:blipFill>
          <a:blip r:embed="rId2"/>
          <a:stretch/>
        </p:blipFill>
        <p:spPr>
          <a:xfrm>
            <a:off x="974880" y="1773360"/>
            <a:ext cx="72849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300" spc="-1" strike="noStrike">
                <a:solidFill>
                  <a:srgbClr val="ed7d31"/>
                </a:solidFill>
                <a:latin typeface="Arial Unicode MS"/>
                <a:cs typeface="Arial Unicode MS"/>
              </a:rPr>
              <a:t>תחומי ליבה של מחלקת התברוא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פנוי אשפה מרחבי הישוב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פנוי גז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הדברת עשביה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הדברת זבובים ויתושים (קבלן חיצוני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ניקוי רחובות - טיאו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פקוח וטרינ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3b3838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3b3838"/>
                </a:solidFill>
                <a:latin typeface="Arial Unicode MS"/>
                <a:cs typeface="Arial Unicode MS"/>
              </a:rPr>
              <a:t>לכידת כלבים משוטטי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מחלקת התברוא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ציוד של המחלקה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מלבן 3"/>
          <p:cNvSpPr/>
          <p:nvPr/>
        </p:nvSpPr>
        <p:spPr>
          <a:xfrm>
            <a:off x="806400" y="2550960"/>
            <a:ext cx="74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משאיות דחס: משאית דף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6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ומשאית סקניה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7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משאית מטאטא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3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חדש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טרקטור ג".ס.פ משנת 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3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חד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היחידה במספרים –</a:t>
            </a:r>
            <a:br>
              <a:rPr sz="3300"/>
            </a:b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נתוני מכלי פינוי אשפה ומיחזור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כול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.5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קוב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עגלות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10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ליטר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חים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ליטר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950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י"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כלובים לקרטון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כלובים לפלסטיק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מחזורית זכוכית  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בשנת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פינתה המחלקה כ-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9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טון אשפה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תמונה 1" descr=""/>
          <p:cNvPicPr/>
          <p:nvPr/>
        </p:nvPicPr>
        <p:blipFill>
          <a:blip r:embed="rId1"/>
          <a:stretch/>
        </p:blipFill>
        <p:spPr>
          <a:xfrm>
            <a:off x="1219320" y="600120"/>
            <a:ext cx="70466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Calibri Light"/>
              </a:rPr>
              <a:t>מועצה מקומית אבו גוש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Calibri Light"/>
              </a:rPr>
              <a:t>תקציב המועצה לשנת </a:t>
            </a:r>
            <a:r>
              <a:rPr b="1" lang="he-IL" sz="4400" spc="-1" strike="noStrike">
                <a:solidFill>
                  <a:srgbClr val="000000"/>
                </a:solidFill>
                <a:latin typeface="Calibri Light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100" spc="-1" strike="noStrike" u="sng">
                <a:solidFill>
                  <a:srgbClr val="000000"/>
                </a:solidFill>
                <a:uFillTx/>
                <a:latin typeface="Calibri"/>
              </a:rPr>
              <a:t>להלן פירוט הצעת התקציב באלפי ש"ח:</a:t>
            </a: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6560" y="2421000"/>
          <a:ext cx="8328240" cy="3830400"/>
        </p:xfrm>
        <a:graphic>
          <a:graphicData uri="http://schemas.openxmlformats.org/drawingml/2006/table">
            <a:tbl>
              <a:tblPr/>
              <a:tblGrid>
                <a:gridCol w="2256120"/>
                <a:gridCol w="3260520"/>
                <a:gridCol w="2811600"/>
              </a:tblGrid>
              <a:tr h="471600"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 מהתקצי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כום באלפי ש"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וצא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2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61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עון מלו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ימו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ותנ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Calibri Light"/>
              </a:rPr>
              <a:t>מחלקת אחזק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מציין מיקום תוכן 3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מלבן 1"/>
          <p:cNvSpPr/>
          <p:nvPr/>
        </p:nvSpPr>
        <p:spPr>
          <a:xfrm>
            <a:off x="565200" y="1566720"/>
            <a:ext cx="79423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r>
              <a:rPr b="0" lang="he-I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עובדים משרה מלאה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חשמלאי, אינסטלטור, ריתוך, גבס, צב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צנרת מים, צבע, בנייה, ריצוף, יריעות, ביו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בנייה, ריצוף, צבע, יריעות, צנרת מים, גב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טרקטוריסט, גינון (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/2</a:t>
            </a:r>
            <a:r>
              <a:rPr b="0" lang="he-I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משרה אחזקה ½ תברואה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גנן – ניקוי רחובות, גזם, ריסו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טרקטוריסט, גינו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ספקים חיצונים</a:t>
            </a:r>
            <a:r>
              <a:rPr b="0" lang="he-I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קבלן ביוב , קבלן חשמל לתאורת רחוב, קבלן שילוט רחובות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ספקי חומרי בניין, ניקיו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תחומים המרכזיים בהם פועלת המחלקה כדי להשיג את יעדיה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אחזקת מוסדות חינוך, ציבור, מבני מועצ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תשתיות ביו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גינו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אחזקת חשמל מבנ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תאורת רחו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תשתיות כביש, מעקות ומדרכו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מדידות למחלקת הנדס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התקנה ואחזקה תחנות אוטובו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מחסני מל"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4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ניהו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 algn="r" rtl="1">
              <a:lnSpc>
                <a:spcPct val="8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3300" spc="-1" strike="noStrike">
                <a:solidFill>
                  <a:srgbClr val="ed7d31"/>
                </a:solidFill>
                <a:latin typeface="Arial Unicode MS"/>
                <a:cs typeface="Arial Unicode MS"/>
              </a:rPr>
              <a:t>תחומי ליבה של המחלקה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מלבן 1"/>
          <p:cNvSpPr/>
          <p:nvPr/>
        </p:nvSpPr>
        <p:spPr>
          <a:xfrm>
            <a:off x="484200" y="1720800"/>
            <a:ext cx="748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מספרים המבטאים את היקפי הפעילות והעשיי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של המחלקה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אחזקת מבנים: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6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גני ילדים,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בי"ס, מתנ"ס,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מסגדים, טיפת חלב, אולם ספורט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חשמל: כ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000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עמודי תאורת רחוב.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מרכזיו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2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תחנות אוטובו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6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גנים ציבוריים סה"כ כ-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דונ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6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מתקנים משחקי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כ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200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מ"ר מעקות ברז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כ 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0</a:t>
            </a:r>
            <a:r>
              <a:rPr b="0" lang="he-I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אלף מ"ר מדרכות משתלבו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ביוב: שכונת מצפה ומוסדות חינו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5549760"/>
            <a:ext cx="655452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 Light"/>
              </a:rPr>
              <a:t>אבו גוש הצעת תקציב </a:t>
            </a:r>
            <a:r>
              <a:rPr b="0" lang="he-IL" sz="1200" spc="-1" strike="noStrike">
                <a:solidFill>
                  <a:srgbClr val="000000"/>
                </a:solidFill>
                <a:latin typeface="Calibri Light"/>
              </a:rPr>
              <a:t>2017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92320" y="592200"/>
          <a:ext cx="6418080" cy="4957560"/>
        </p:xfrm>
        <a:graphic>
          <a:graphicData uri="http://schemas.openxmlformats.org/drawingml/2006/table">
            <a:tbl>
              <a:tblPr/>
              <a:tblGrid>
                <a:gridCol w="1927080"/>
                <a:gridCol w="233280"/>
                <a:gridCol w="3343320"/>
                <a:gridCol w="914400"/>
              </a:tblGrid>
              <a:tr h="36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יכוז הוצאות שכ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ו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ם הסעיף / הסב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9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3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3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חינו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רווח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3" name="מלבן 7"/>
          <p:cNvSpPr/>
          <p:nvPr/>
        </p:nvSpPr>
        <p:spPr>
          <a:xfrm>
            <a:off x="3182760" y="3244680"/>
            <a:ext cx="27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אבו גוש הצעת תקציב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3280" y="-6480"/>
          <a:ext cx="8767800" cy="7123320"/>
        </p:xfrm>
        <a:graphic>
          <a:graphicData uri="http://schemas.openxmlformats.org/drawingml/2006/table">
            <a:tbl>
              <a:tblPr/>
              <a:tblGrid>
                <a:gridCol w="2678040"/>
                <a:gridCol w="141480"/>
                <a:gridCol w="4038480"/>
                <a:gridCol w="1909800"/>
              </a:tblGrid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David"/>
                        </a:rPr>
                        <a:t>ריכוז שכר כלל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משרו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שם הסעיף / הסב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סעי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הנהלת הרש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11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מבקר פנימ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12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מזכיר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13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גזבר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21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גבייה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623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6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שרותי ניקיו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12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תברוא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12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קב"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22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הנדס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31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פיקוח ורישוי עסקי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3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שכר אחזק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741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3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יחידה לקידום נוער - מרכז השכל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828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2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cs typeface="David"/>
                        </a:rPr>
                        <a:t>תשלומי פנסיה כולל רצף זכוי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999-1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Arial"/>
                          <a:ea typeface="Davi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                </a:t>
                      </a: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39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Davi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David"/>
                        </a:rPr>
                        <a:t>סה"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66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708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420840"/>
          <a:ext cx="7759440" cy="6581520"/>
        </p:xfrm>
        <a:graphic>
          <a:graphicData uri="http://schemas.openxmlformats.org/drawingml/2006/table">
            <a:tbl>
              <a:tblPr/>
              <a:tblGrid>
                <a:gridCol w="2371680"/>
                <a:gridCol w="123840"/>
                <a:gridCol w="3573360"/>
                <a:gridCol w="169056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יכוז שכר חינו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ו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ם הסעיף / הסב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עי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ינהל חינו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0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רכז גני ילדי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2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גנ"י חוב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2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גנ"י טרום חוב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2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בתי ספר יסוד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בתי ספר יסודי השלו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2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סייע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בי"ס הארמו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3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ורי תיכון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52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קב"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1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שפ"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3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משכורת ושכר עבודה 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7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קב"ס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לוות בהסעו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8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רכז מצילה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79-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      </a:t>
                      </a: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9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Calibri Light"/>
              </a:rPr>
              <a:t>באבו גוש התושב במרכז</a:t>
            </a:r>
            <a:endParaRPr b="0" lang="en-US" sz="11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025720" y="782640"/>
          <a:ext cx="5307120" cy="5151600"/>
        </p:xfrm>
        <a:graphic>
          <a:graphicData uri="http://schemas.openxmlformats.org/drawingml/2006/table">
            <a:tbl>
              <a:tblPr/>
              <a:tblGrid>
                <a:gridCol w="1677960"/>
                <a:gridCol w="58680"/>
                <a:gridCol w="2529000"/>
                <a:gridCol w="1041480"/>
              </a:tblGrid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יכוז שכר רווח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ו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ם הסעיף / הסב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עי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מינהל רווח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0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טיפול בילד ובנוע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35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מרכזי ועדות חוק סיעו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44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שכר טיפול נערות במצוק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712-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          </a:t>
                      </a: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8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                        </a:t>
                      </a: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912080" cy="516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Calibri Light"/>
              </a:rPr>
              <a:t>הגידול בהוצאות שכר של עובדי הרשויות המקומיות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63400" y="120600"/>
            <a:ext cx="807912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בשנת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נחתמו הסכמים קיבוציים לעובדי הרשויות המקומיו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אשר ישפיעו על עלות השכר בשנת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ובשנים שלאחר מכן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e-IL" sz="2600" spc="-1" strike="noStrike">
                <a:solidFill>
                  <a:srgbClr val="000000"/>
                </a:solidFill>
                <a:latin typeface="Calibri"/>
              </a:rPr>
              <a:t>סקירת ההסכמים שנחתמו לפי סדר כרונולוגי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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סכם קיבוצי מסגרת מיו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0/3/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מורים בשיעו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6%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. מנגנו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שיפוי כמקובל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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סכם קיבוצי מסגרת מיו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8/4/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כלל המשק בשיעו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7.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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הסכם קיבוצי מסגרת מיו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8/4/16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בשיעור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2%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2600" spc="-1" strike="noStrike">
                <a:solidFill>
                  <a:srgbClr val="000000"/>
                </a:solidFill>
                <a:latin typeface="Calibri"/>
              </a:rPr>
              <a:t>נוספים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שלטו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המקומ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28480" y="673200"/>
          <a:ext cx="7907400" cy="5476680"/>
        </p:xfrm>
        <a:graphic>
          <a:graphicData uri="http://schemas.openxmlformats.org/drawingml/2006/table">
            <a:tbl>
              <a:tblPr/>
              <a:tblGrid>
                <a:gridCol w="2141640"/>
                <a:gridCol w="3097440"/>
                <a:gridCol w="2668320"/>
              </a:tblGrid>
              <a:tr h="684000"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 מהתקצי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כום באלפי ש"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כנס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כנסות עצמ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5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ים יעודיים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ענקים לאיזו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3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משלה אחרי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58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כנסות מותנ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מלבן 2"/>
          <p:cNvSpPr/>
          <p:nvPr/>
        </p:nvSpPr>
        <p:spPr>
          <a:xfrm>
            <a:off x="738360" y="865080"/>
            <a:ext cx="775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סגרת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פאראפואיים ב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בסה"כ. מנגנון שיפוי כמקוב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סגרת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פסיכולוגים ב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בסה"כ. מנגנון שיפוי כמקוב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סגרת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לבורנטים ב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 מנגנון שיפוי כמקוב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סכם קיבוצי מיום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3/6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עובדי הוועדות המקומ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תכנון ובניה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מלבן 2"/>
          <p:cNvSpPr/>
          <p:nvPr/>
        </p:nvSpPr>
        <p:spPr>
          <a:xfrm>
            <a:off x="609480" y="1117440"/>
            <a:ext cx="7983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יום ה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8/4/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נחתם הסכם קיבוצי בין מרכז השלטו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מקומי, שלוש הערים הגדולות ומרכז המועצות האזור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בין ההסתדרות בדבר הקצאת מסגרת עלות נוספת ש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וספות שכר והטבות כספיות בשיעור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, )נוסף ל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מסגרת של כלל המשק שנחתם באותו היום(, לטוב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שיפור שכרם של העובדים הפעילים בעלי השכר הנמוך וכ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וסכם על העסקת עובדים בחוזים אישיים בשיעור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מלבן 2"/>
          <p:cNvSpPr/>
          <p:nvPr/>
        </p:nvSpPr>
        <p:spPr>
          <a:xfrm>
            <a:off x="0" y="1166760"/>
            <a:ext cx="862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הסכם יחול על העובדים בדירוגים הבאים: דירוג מנהלי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חינוך, נוער, חברה וקהילה, דירוג מהנדסים, דירוג המח"ר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דירוג טכנאים והנדסאים, דירוג עובדים סוציאליים למעט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פסיכולוג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עובדים, על כל דירוגיהם, המועסקים בבתי החולים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בורנט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עובדים בוועדות מקומיות לתכנון ובני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מציל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מלבן 2"/>
          <p:cNvSpPr/>
          <p:nvPr/>
        </p:nvSpPr>
        <p:spPr>
          <a:xfrm>
            <a:off x="216000" y="1260360"/>
            <a:ext cx="875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יום ה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4/7/16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נחתם הסכם קיבוצי בדבר אופן חלוקת הקצא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עלות בשיעור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2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וה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של הסכם המסגרת. סוכם כדלקמן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1b7fe"/>
                </a:solidFill>
                <a:latin typeface="Candara,Bold"/>
              </a:rPr>
              <a:t>.</a:t>
            </a:r>
            <a:r>
              <a:rPr b="1" lang="he-IL" sz="2400" spc="-1" strike="noStrike">
                <a:solidFill>
                  <a:srgbClr val="31b7fe"/>
                </a:solidFill>
                <a:latin typeface="Candara,Bold"/>
              </a:rPr>
              <a:t>1</a:t>
            </a:r>
            <a:r>
              <a:rPr b="1" lang="he-IL" sz="2400" spc="-1" strike="noStrike">
                <a:solidFill>
                  <a:srgbClr val="31b7fe"/>
                </a:solidFill>
                <a:latin typeface="Candara,Bold"/>
              </a:rPr>
              <a:t> </a:t>
            </a:r>
            <a:r>
              <a:rPr b="1" lang="he-IL" sz="2400" spc="-1" strike="noStrike">
                <a:solidFill>
                  <a:srgbClr val="073e87"/>
                </a:solidFill>
                <a:latin typeface="Arial,Bold"/>
              </a:rPr>
              <a:t>תוספת מעו"ף/ תוספת מח"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חל מיום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.7.2016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תעודכן תוספת המעו"ף/ תוספת מח"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כהגדרתה בהסכם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2012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ותשולם כמפורט להלן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ע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גדל התוספת מ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1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 ל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85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0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.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50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30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דרגה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+ תעמוד התוספת על סך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5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מלבן 3"/>
          <p:cNvSpPr/>
          <p:nvPr/>
        </p:nvSpPr>
        <p:spPr>
          <a:xfrm>
            <a:off x="166680" y="1082520"/>
            <a:ext cx="880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יום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2.2017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עודכן תוספת המעוף/ תוספת מח"ר ושיעוריה יהי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כדלקמן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5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8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75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6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ו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4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דרגה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1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Candara"/>
              </a:rPr>
              <a:t>- +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0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1" lang="he-IL" sz="2800" spc="-1" strike="noStrike">
                <a:solidFill>
                  <a:srgbClr val="073e87"/>
                </a:solidFill>
                <a:latin typeface="Arial,Bold"/>
              </a:rPr>
              <a:t>למען הסר ספק, תוספת המעו"ף / מח"ר מתקזז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73e87"/>
                </a:solidFill>
                <a:latin typeface="Arial,Bold"/>
              </a:rPr>
              <a:t>משכר המינימו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וספת המעו"ף מהווה מיצוי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.6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מתוך ה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.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מלבן 2"/>
          <p:cNvSpPr/>
          <p:nvPr/>
        </p:nvSpPr>
        <p:spPr>
          <a:xfrm>
            <a:off x="520560" y="1859040"/>
            <a:ext cx="838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חל מיום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/1/2017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תשולם תוספת שכר בשיעור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מהשכ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משולב הטבלאי לעובדים בתפקידים הבאי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זכירות בתי ספר לרבות מינהל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אחראי למשק ותחזוקה )שרת/ אב בית( בבתי הספר ובמתנ"סי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חשב 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עובד בדירוג המח"ר, הממלא תפקיד של חשב בכל יחי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ארגונית מן הסוג הבכיר ביותר ברשו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buClr>
                <a:srgbClr val="073e87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פקחי חניה 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עובדים שעוסקים בפועל באכיפת דיני החניה, שמתח הדרגות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6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מלבן 3"/>
          <p:cNvSpPr/>
          <p:nvPr/>
        </p:nvSpPr>
        <p:spPr>
          <a:xfrm>
            <a:off x="255600" y="1582560"/>
            <a:ext cx="8377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תוספת ענפ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7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תהווה שכר לכל דבר ועניין לרב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חישוב ערך השעה לצורך תשלום גמול עבור עבודה נוספת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כוננויות, משמרות, קריאות פתע, לעניין גמלאות ולעניי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פרשות לקופת גמל לקצבה ולפיצויי פיטורים כמשמעות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בחוק פיצויי פיטורים, תשכ"ג 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963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מלבן 2"/>
          <p:cNvSpPr/>
          <p:nvPr/>
        </p:nvSpPr>
        <p:spPr>
          <a:xfrm>
            <a:off x="295200" y="1166760"/>
            <a:ext cx="863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73e87"/>
                </a:solidFill>
                <a:latin typeface="Arial,Bold"/>
              </a:rPr>
              <a:t>עדכון תוספת ניהול ל"עובדים חדשים"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החל מ </a:t>
            </a:r>
            <a:r>
              <a:rPr b="0" lang="he-IL" sz="2400" spc="-1" strike="noStrike">
                <a:solidFill>
                  <a:srgbClr val="ff0000"/>
                </a:solidFill>
                <a:latin typeface="Arial"/>
              </a:rPr>
              <a:t>1/2/17</a:t>
            </a:r>
            <a:r>
              <a:rPr b="0" lang="he-I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עודכן תוספת הניהול כדלקמן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ברמה הראשונ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ל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ברמה השני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מ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0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ל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12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ברמה השלישי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להגדרת כפיף יבואו במניין גם עובדי קבלן וכ"א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נוסף יהיה זכאי לתוספת ניהול רמה ראשונה )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7.5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(, עובד שהוא בע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ואר ראשון )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.A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(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בכלכלה או בחשבונאות, שתנאי סף למשרתו הינ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ואר מוכר כאמור, ושמתח הדרגות הצמוד לתפקידו הוא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0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42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)+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ומעלה, גם אם תפקידו אינו כולל אחריות ניהולית ישירה על עובדי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תוספת הניהול מהווה מיצוי של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0.1%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 מתוך ה- </a:t>
            </a:r>
            <a:r>
              <a:rPr b="0" lang="he-IL" sz="2400" spc="-1" strike="noStrike">
                <a:solidFill>
                  <a:srgbClr val="073e87"/>
                </a:solidFill>
                <a:latin typeface="Arial"/>
              </a:rPr>
              <a:t>9.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מלבן 2"/>
          <p:cNvSpPr/>
          <p:nvPr/>
        </p:nvSpPr>
        <p:spPr>
          <a:xfrm>
            <a:off x="166680" y="1028880"/>
            <a:ext cx="864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יום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1.2017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גובה השתתפות המעסיק בדמי החב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מועדון שלך בגין עובד עליו חל הסכם זה, ואשר מועסק אצ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מעסיק מעל שלושה חודשים ומעל לרבע משרה בחודש מא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של שנת התשלום, יעמוד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3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 לשנה קלנדרי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(בשנ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עמד על 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68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שח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מועדון שלך מהווה מיצוי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0.1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מתוך ה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.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עוד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0.1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מועדון שלך ניתן ע"ח המעסיקים מעל ל-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9.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מלבן 2"/>
          <p:cNvSpPr/>
          <p:nvPr/>
        </p:nvSpPr>
        <p:spPr>
          <a:xfrm>
            <a:off x="344520" y="1444680"/>
            <a:ext cx="860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סוכם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.3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י ו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שקלי בפעימות במועדים מע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שונים וכדלקמן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buClr>
                <a:srgbClr val="31b7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3.2017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7.4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  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0.92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2.2018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82.2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.67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9563040"/>
        </p:xfrm>
        <a:graphic>
          <a:graphicData uri="http://schemas.openxmlformats.org/drawingml/2006/table">
            <a:tbl>
              <a:tblPr/>
              <a:tblGrid>
                <a:gridCol w="1380960"/>
                <a:gridCol w="1379880"/>
                <a:gridCol w="1380960"/>
                <a:gridCol w="1379520"/>
                <a:gridCol w="1128600"/>
                <a:gridCol w="2494080"/>
              </a:tblGrid>
              <a:tr h="280800">
                <a:tc gridSpan="5"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שוואת תקציב מול ביצוע לשנים </a:t>
                      </a: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5-2017</a:t>
                      </a: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באלפי ש"ח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וצא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צעת תקצי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צוע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קציב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צוע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קציב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כלל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 כלל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 כלל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חינו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רווח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כ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עול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עון מלו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ימו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חד פעמ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ותנ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5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הוצא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מלבן 2"/>
          <p:cNvSpPr/>
          <p:nvPr/>
        </p:nvSpPr>
        <p:spPr>
          <a:xfrm>
            <a:off x="0" y="1305000"/>
            <a:ext cx="889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6.2018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34.62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.55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חל מה- 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1.2.2019</a:t>
            </a:r>
            <a:r>
              <a:rPr b="0" lang="he-I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יעמוד סכום התוספת הש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לעובדים בדירוג המנהלי על סך ש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179.49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₪. שיעו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יעמוד על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3.3%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אחוז מהשכר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1b7fe"/>
                </a:solidFill>
                <a:latin typeface="Symbol"/>
                <a:ea typeface="Symbol"/>
              </a:rPr>
              <a:t>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התוספת האחוז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והתוספת השיקלית 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2016</a:t>
            </a: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 לגב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73e87"/>
                </a:solidFill>
                <a:latin typeface="Arial"/>
              </a:rPr>
              <a:t>דירוג המח"ר תסוכם בהמשך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מלבן 2"/>
          <p:cNvSpPr/>
          <p:nvPr/>
        </p:nvSpPr>
        <p:spPr>
          <a:xfrm>
            <a:off x="3289320" y="2787480"/>
            <a:ext cx="32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David"/>
                <a:cs typeface="David"/>
              </a:rPr>
              <a:t>תודה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072720" cy="7029360"/>
        </p:xfrm>
        <a:graphic>
          <a:graphicData uri="http://schemas.openxmlformats.org/drawingml/2006/table">
            <a:tbl>
              <a:tblPr/>
              <a:tblGrid>
                <a:gridCol w="1382760"/>
                <a:gridCol w="1382760"/>
                <a:gridCol w="1382760"/>
                <a:gridCol w="1380960"/>
                <a:gridCol w="1125720"/>
                <a:gridCol w="2417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כנס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יתר עצמי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צמיות חינו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צמיות רווח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 חינו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 רווח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חרים ממשל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ענק כלל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חרים משרד הפני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דפים שנה קודמ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כנסה מותנ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1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3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9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9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8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הכנסו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עודף (גרעון) שוט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11185560"/>
        </p:xfrm>
        <a:graphic>
          <a:graphicData uri="http://schemas.openxmlformats.org/drawingml/2006/table">
            <a:tbl>
              <a:tblPr/>
              <a:tblGrid>
                <a:gridCol w="1542960"/>
                <a:gridCol w="1543320"/>
                <a:gridCol w="1542960"/>
                <a:gridCol w="1579320"/>
                <a:gridCol w="2935440"/>
              </a:tblGrid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שלומים לפי פרק 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בהשוואה ל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הנהלה כללי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59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1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כלל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8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0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נהל כספ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וצאות מימ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3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רע"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1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8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הנהלה כללי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שרותים מקומ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39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0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ברוא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מירה וביטחו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45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כנון ובניין עי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1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28,9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נכסים ציבור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רותים שונ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יקוח עירונ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92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32,9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קומ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שרותים ממלכת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8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9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ינו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4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83,7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רבות-כולל מותנ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ריאו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58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14,8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ווח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ד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יכות הסביב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17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721,5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מלכתי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מפעל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יו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שלומים בלתי רגיל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23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51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מפעלי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0,149,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</a:t>
                      </a: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3,291,46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כלל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604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e-IL" sz="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18249840"/>
        </p:xfrm>
        <a:graphic>
          <a:graphicData uri="http://schemas.openxmlformats.org/drawingml/2006/table">
            <a:tbl>
              <a:tblPr/>
              <a:tblGrid>
                <a:gridCol w="1882800"/>
                <a:gridCol w="1225440"/>
                <a:gridCol w="1724040"/>
                <a:gridCol w="1081080"/>
                <a:gridCol w="2741760"/>
                <a:gridCol w="488880"/>
              </a:tblGrid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בולים לפי פרק 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בהשוואה ל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אחוזים מ-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ציב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שם הפר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מיסים ומענק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רנונ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1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31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הנחות ארנונ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גרו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16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68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0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ענק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3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85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שרד הפנים אחר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457,3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88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מיסים ומענק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בולים משרותים מקומ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ברוא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מירה ובטחו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כנון ובניין עי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נכסים ציבור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9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5,9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שרותים שונים והשתתפויו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פיקוח עירונ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59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84,9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קומ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תקבולים משרותים ממלכת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52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23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חינו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7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תרבות כולל מותנ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69,9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70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רווח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איכות הסביב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340,9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422,2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שרותים ממלכתי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מפעל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מ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0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2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ביו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14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92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96,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סה"כ תקבולים ממפעלי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4320" rIns="4320" tIns="43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   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0,149,7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   </a:t>
                      </a: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53,291,4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סה"כ כלל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8040"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e-I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e-IL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מציין מיקום של תמונה 4" descr=""/>
          <p:cNvPicPr/>
          <p:nvPr/>
        </p:nvPicPr>
        <p:blipFill>
          <a:blip r:embed="rId1"/>
          <a:srcRect l="12661" t="0" r="12661" b="0"/>
          <a:stretch/>
        </p:blipFill>
        <p:spPr>
          <a:xfrm>
            <a:off x="3887640" y="97776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57040"/>
            <a:ext cx="294948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תמונה 5" descr=""/>
          <p:cNvPicPr/>
          <p:nvPr/>
        </p:nvPicPr>
        <p:blipFill>
          <a:blip r:embed="rId2"/>
          <a:stretch/>
        </p:blipFill>
        <p:spPr>
          <a:xfrm>
            <a:off x="630360" y="457200"/>
            <a:ext cx="83343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1428480"/>
            <a:ext cx="818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 u="sng">
                <a:solidFill>
                  <a:srgbClr val="000000"/>
                </a:solidFill>
                <a:uFillTx/>
                <a:latin typeface="Calibri"/>
              </a:rPr>
              <a:t>תחומי ליבה של מחלקת החינו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קידום וליווי צוותי ניהול וקידום מקצועי של עובדי ההוראה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קיום חוק לימוד חובה ומניעת נשירה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פעלת תוכניות תגבור לימודי/ העשרה והעלאת הישגי התלמידי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יתוח סביבות לימודיות בגנים ובבתי"ס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חינוך מיוחד וועדות השמה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גברת המערך המסייע – תומך מערכת החינוך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הכנסות עצמיות- תקנים, מצבת תלמידים ומעקב מול משרד החינוך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ניהול כח אדם, אספקה ואחזקה חומרית/ פיזית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Calibri"/>
              </a:rPr>
              <a:t>פיתוח פיזי למבני חינוך/ חדשים/ קיי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6:31:41Z</dcterms:created>
  <dc:creator>איתן</dc:creator>
  <dc:description/>
  <dc:language>en-US</dc:language>
  <cp:lastModifiedBy>user</cp:lastModifiedBy>
  <cp:lastPrinted>2016-11-20T08:25:45Z</cp:lastPrinted>
  <dcterms:modified xsi:type="dcterms:W3CDTF">2017-02-20T19:20:38Z</dcterms:modified>
  <cp:revision>85</cp:revision>
  <dc:subject/>
  <dc:title>אבו גוש תקציב 2017</dc:title>
</cp:coreProperties>
</file>