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46240" y="-360"/>
            <a:ext cx="2941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440" y="-360"/>
            <a:ext cx="2941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0640" y="1239480"/>
            <a:ext cx="446688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4680"/>
            <a:ext cx="542952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46240" y="9425160"/>
            <a:ext cx="29415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440" y="9425160"/>
            <a:ext cx="2941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505D-9A59-453B-88B3-DEEB2A999D12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60640" y="1239840"/>
            <a:ext cx="4466880" cy="33498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74680"/>
            <a:ext cx="54295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מציין מיקום של מספר שקופית 3"/>
          <p:cNvSpPr/>
          <p:nvPr/>
        </p:nvSpPr>
        <p:spPr>
          <a:xfrm>
            <a:off x="1440" y="9425160"/>
            <a:ext cx="29419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7760-24F6-4DAC-8603-5B8D96C7B59E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4B07-CC97-4DBB-B533-404462E9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47D0-953F-4C2B-AD21-E15ABB44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F44-6583-4954-B874-4AD27173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CFF-F101-4BA0-BAB0-CD71596A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4BF7-8D7D-40AE-AD3C-E1BD5C85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069-B46D-4668-934B-3CE62476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566-007D-4C79-A3E6-0A0A894C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6A1-7A68-42C8-8918-49171640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829-BF46-40AE-B235-EA05B33A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525-CC12-47BC-AB63-8E2C322D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DE2-FF43-4BF4-A7A1-FA01DB6A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7BC-1DE9-49AC-B083-60708DFE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39A7-70D8-4A9A-A0A5-20A66F38C042}" type="datetime">
              <a:rPr b="0" lang="he-IL" sz="9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900" spc="-1" strike="noStrike">
                <a:solidFill>
                  <a:srgbClr val="898989"/>
                </a:solidFill>
                <a:latin typeface="Calibri"/>
              </a:rPr>
              <a:t> </a:t>
            </a:r>
            <a:fld id="{D10F613A-4FE8-4D05-BB68-F27FF4E6ECB3}" type="datetime10">
              <a:rPr b="0" lang="he-IL" sz="900" spc="-1" strike="noStrike">
                <a:solidFill>
                  <a:srgbClr val="898989"/>
                </a:solidFill>
                <a:latin typeface="Calibri"/>
              </a:rPr>
              <a:t>20:04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898989"/>
                </a:solidFill>
                <a:latin typeface="Calibri"/>
              </a:rPr>
              <a:t>יעדי המועצה </a:t>
            </a:r>
            <a:r>
              <a:rPr b="0" lang="he-IL" sz="900" spc="-1" strike="noStrike">
                <a:solidFill>
                  <a:srgbClr val="898989"/>
                </a:solidFill>
                <a:latin typeface="Calibri"/>
              </a:rPr>
              <a:t>2017</a:t>
            </a:r>
            <a:r>
              <a:rPr b="0" lang="he-IL" sz="900" spc="-1" strike="noStrike">
                <a:solidFill>
                  <a:srgbClr val="898989"/>
                </a:solidFill>
                <a:latin typeface="Calibri"/>
              </a:rPr>
              <a:t> ממשיכים בהמראה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13A6-3C09-497B-9D45-FE21A05C3933}" type="slidenum">
              <a:rPr b="0" lang="he-I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0000" y="466560"/>
            <a:ext cx="2949480" cy="238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 Light"/>
              </a:rPr>
              <a:t>מועצה מקומית אבו גוש</a:t>
            </a:r>
            <a:br>
              <a:rPr sz="3200"/>
            </a:br>
            <a:r>
              <a:rPr b="1" lang="he-IL" sz="3200" spc="-1" strike="noStrike">
                <a:solidFill>
                  <a:srgbClr val="000000"/>
                </a:solidFill>
                <a:latin typeface="Calibri Light"/>
              </a:rPr>
              <a:t>תקציב לשנת </a:t>
            </a:r>
            <a:r>
              <a:rPr b="1" lang="he-IL" sz="3200" spc="-1" strike="noStrike">
                <a:solidFill>
                  <a:srgbClr val="000000"/>
                </a:solidFill>
                <a:latin typeface="Calibri Light"/>
              </a:rPr>
              <a:t>2017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0000" y="3271320"/>
            <a:ext cx="294948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תקציב </a:t>
            </a: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yoaview.com/Yoaview/SITE/userfiles/image/yoaView/Sites%20&amp;%20more/Center/Abu%20Gosh%20Mosqe/Abu%20Gosh%20New%20Mosque%2013.jpg"/>
          <p:cNvPicPr/>
          <p:nvPr/>
        </p:nvPicPr>
        <p:blipFill>
          <a:blip r:embed="rId1"/>
          <a:srcRect l="14345" t="0" r="14345" b="0"/>
          <a:stretch/>
        </p:blipFill>
        <p:spPr>
          <a:xfrm>
            <a:off x="3887640" y="987480"/>
            <a:ext cx="4629240" cy="4873680"/>
          </a:xfrm>
          <a:prstGeom prst="rect">
            <a:avLst/>
          </a:prstGeom>
          <a:ln w="0">
            <a:noFill/>
          </a:ln>
        </p:spPr>
      </p:pic>
      <p:pic>
        <p:nvPicPr>
          <p:cNvPr id="51" name="תמונה 4" descr=""/>
          <p:cNvPicPr/>
          <p:nvPr/>
        </p:nvPicPr>
        <p:blipFill>
          <a:blip r:embed="rId2"/>
          <a:stretch/>
        </p:blipFill>
        <p:spPr>
          <a:xfrm>
            <a:off x="1398600" y="4033800"/>
            <a:ext cx="18730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720" y="189000"/>
            <a:ext cx="4689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e-IL" sz="2000" spc="-1" strike="noStrike" u="sng">
                <a:solidFill>
                  <a:srgbClr val="000000"/>
                </a:solidFill>
                <a:uFillTx/>
                <a:latin typeface="Calibri Light"/>
                <a:cs typeface="Arial"/>
              </a:rPr>
              <a:t>מספר תקנים, כ"א מאויש- תשע"ז </a:t>
            </a:r>
            <a:r>
              <a:rPr b="1" lang="he-IL" sz="2000" spc="-1" strike="noStrike" u="sng">
                <a:solidFill>
                  <a:srgbClr val="000000"/>
                </a:solidFill>
                <a:uFillTx/>
                <a:latin typeface="Calibri Light"/>
                <a:ea typeface="Arial"/>
              </a:rPr>
              <a:t>2016-2017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08000" y="907920"/>
          <a:ext cx="9001080" cy="5761080"/>
        </p:xfrm>
        <a:graphic>
          <a:graphicData uri="http://schemas.openxmlformats.org/drawingml/2006/table">
            <a:tbl>
              <a:tblPr/>
              <a:tblGrid>
                <a:gridCol w="2271600"/>
                <a:gridCol w="3525840"/>
                <a:gridCol w="2511360"/>
                <a:gridCol w="692280"/>
              </a:tblGrid>
              <a:tr h="23040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עובד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מס' תקנ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בעלי תפקיד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מס'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3004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אג'י מנסו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נהל מחלק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2860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ייסר סאל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זכירת מחלק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3040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עדיין לא מאוי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כזת גנים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3004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פריד עבד אלרחמ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קב"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2700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וחמד סאפ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וסא היאג'נה, אריג' נתשה, תמי , ראסם מוח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נהל שפ"ח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2860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פואד אברה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נהל היחידה לקידום נוע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3"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3040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ג'ואד אברה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עובד קידום נוע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04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אמל ג'ריי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כזת השכ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תגריד ג'ב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ים עבד אלרחמ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ועדונית משפחתית משותפ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6188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מנהל , מורים , לבורנטים וספר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בי"ס תיכון - מו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6044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'ולוד, ח'יתאם, אנג'אם, איה, דלא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זכי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69516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וראד, משה, נסים, סובחי, ג'מאל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אבי בי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2860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עוזרות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4"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3040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ייעות חנ"מ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04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ייעות אישיות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ייעות מלוו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42920" y="115920"/>
            <a:ext cx="620388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e-IL" sz="1800" spc="-1" strike="noStrike" u="sng">
                <a:solidFill>
                  <a:srgbClr val="000000"/>
                </a:solidFill>
                <a:uFillTx/>
                <a:latin typeface="Calibri Light"/>
                <a:cs typeface="Arial"/>
              </a:rPr>
              <a:t>התפלגות תלמידים במוסדות חינוך עפ"י שכבות גיל– תשע"ז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9280" y="476280"/>
          <a:ext cx="8964720" cy="6535800"/>
        </p:xfrm>
        <a:graphic>
          <a:graphicData uri="http://schemas.openxmlformats.org/drawingml/2006/table">
            <a:tbl>
              <a:tblPr/>
              <a:tblGrid>
                <a:gridCol w="1246320"/>
                <a:gridCol w="1584360"/>
                <a:gridCol w="955440"/>
                <a:gridCol w="966960"/>
                <a:gridCol w="1036800"/>
                <a:gridCol w="934920"/>
                <a:gridCol w="900000"/>
                <a:gridCol w="628560"/>
                <a:gridCol w="711360"/>
              </a:tblGrid>
              <a:tr h="191880"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גמו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וג בית ספר וכמו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בנו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בני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ס' תלמידי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ספר כיתו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כיתו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6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טרום חוב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גני טרום חוב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וב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גני חוב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78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ינוך מיוח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גני חינוך מיוח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80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91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גי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יסודיי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גי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גיל+ כתה מקדמ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6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גי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גיל + כתה מקדמ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6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92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גי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טיבת ביניי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גי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גי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6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 -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 - 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91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גי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תיכו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6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גי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י"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גי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י"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 - 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6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91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ארמו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6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6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י"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7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י"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6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4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סה"כ בנות-  </a:t>
                      </a: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סה"כ בנים- </a:t>
                      </a: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סה"כ תלמידים </a:t>
                      </a: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סה"כ כיתו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כיתות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7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Calibri Light"/>
                <a:cs typeface="David"/>
              </a:rPr>
              <a:t>המחלקה לשירותים חברתיים אבו גו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מס' אוכלוסיה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8500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 תושבים 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עיקר האוכלוסייה מוסלמית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מס' תיקים פעילים נכון ל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01/17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899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 תיק 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מס' אוכלוסיה מטופלת –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2385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אחוז ילדים ונוער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43%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 מסך האוכלוסייה 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מעמד סוציו אקונומי של הישוב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  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24423" t="33716" r="20610" b="17918"/>
          <a:stretch/>
        </p:blipFill>
        <p:spPr>
          <a:xfrm>
            <a:off x="714240" y="642960"/>
            <a:ext cx="69296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e-IL" sz="3600" spc="-1" strike="noStrike" u="sng">
                <a:solidFill>
                  <a:srgbClr val="000000"/>
                </a:solidFill>
                <a:uFillTx/>
                <a:latin typeface="Calibri Light"/>
              </a:rPr>
              <a:t>חתך סטטיסטי מהיקף התיקים המטופלים ברווחה לתאריך </a:t>
            </a:r>
            <a:r>
              <a:rPr b="1" lang="he-IL" sz="3600" spc="-1" strike="noStrike" u="sng">
                <a:solidFill>
                  <a:srgbClr val="000000"/>
                </a:solidFill>
                <a:uFillTx/>
                <a:latin typeface="Calibri Light"/>
              </a:rPr>
              <a:t>01/2017</a:t>
            </a:r>
            <a:r>
              <a:rPr b="1" lang="he-IL" sz="3600" spc="-1" strike="noStrike" u="sng">
                <a:solidFill>
                  <a:srgbClr val="000000"/>
                </a:solidFill>
                <a:uFillTx/>
                <a:latin typeface="Calibri Light"/>
              </a:rPr>
              <a:t> לפי מהויות נזקקות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בעיות הנובעות מרמת הכנסה 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24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זקנה 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16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בעיות בתפקוד הורי ובעיות בין הורים לילדים + אלימות במשפחה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12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נכויות ומוגבלויות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14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פיגור שכלי ואוטיזם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בעיות אישיות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מחלות נפש מאובחנות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נערות ונוער בסיכון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התמכרויות ועבריינות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3300" spc="-1" strike="noStrike">
                <a:solidFill>
                  <a:srgbClr val="000000"/>
                </a:solidFill>
                <a:latin typeface="Calibri Light"/>
              </a:rPr>
              <a:t>מחלקת תברואה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76" name="מציין מיקום תוכן 3" descr=""/>
          <p:cNvPicPr/>
          <p:nvPr/>
        </p:nvPicPr>
        <p:blipFill>
          <a:blip r:embed="rId2"/>
          <a:stretch/>
        </p:blipFill>
        <p:spPr>
          <a:xfrm>
            <a:off x="974880" y="1773360"/>
            <a:ext cx="728496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e-IL" sz="3300" spc="-1" strike="noStrike">
                <a:solidFill>
                  <a:srgbClr val="ed7d31"/>
                </a:solidFill>
                <a:latin typeface="Arial Unicode MS"/>
                <a:cs typeface="Arial Unicode MS"/>
              </a:rPr>
              <a:t>תחומי ליבה של מחלקת התברואה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3b3838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3b3838"/>
                </a:solidFill>
                <a:latin typeface="Arial Unicode MS"/>
                <a:cs typeface="Arial Unicode MS"/>
              </a:rPr>
              <a:t>פנוי אשפה מרחבי הישוב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3b3838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3b3838"/>
                </a:solidFill>
                <a:latin typeface="Arial Unicode MS"/>
                <a:cs typeface="Arial Unicode MS"/>
              </a:rPr>
              <a:t>פנוי גזם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3b3838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3b3838"/>
                </a:solidFill>
                <a:latin typeface="Arial Unicode MS"/>
                <a:cs typeface="Arial Unicode MS"/>
              </a:rPr>
              <a:t>הדברת עשביה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3b3838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3b3838"/>
                </a:solidFill>
                <a:latin typeface="Arial Unicode MS"/>
                <a:cs typeface="Arial Unicode MS"/>
              </a:rPr>
              <a:t>הדברת זבובים ויתושים (קבלן חיצוני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3b3838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3b3838"/>
                </a:solidFill>
                <a:latin typeface="Arial Unicode MS"/>
                <a:cs typeface="Arial Unicode MS"/>
              </a:rPr>
              <a:t>ניקוי רחובות - טיאוט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3b3838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3b3838"/>
                </a:solidFill>
                <a:latin typeface="Arial Unicode MS"/>
                <a:cs typeface="Arial Unicode MS"/>
              </a:rPr>
              <a:t>פקוח וטרינ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3b3838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3b3838"/>
                </a:solidFill>
                <a:latin typeface="Arial Unicode MS"/>
                <a:cs typeface="Arial Unicode MS"/>
              </a:rPr>
              <a:t>לכידת כלבים משוטטים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3300" spc="-1" strike="noStrike">
                <a:solidFill>
                  <a:srgbClr val="000000"/>
                </a:solidFill>
                <a:latin typeface="Calibri Light"/>
              </a:rPr>
              <a:t>מחלקת התברואה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ציוד של המחלקה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מלבן 3"/>
          <p:cNvSpPr/>
          <p:nvPr/>
        </p:nvSpPr>
        <p:spPr>
          <a:xfrm>
            <a:off x="806400" y="2550960"/>
            <a:ext cx="74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משאיות דחס: משאית דף משנת 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06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ומשאית סקניה משנת 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07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משאית מטאטא משנת 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13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חדש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טרקטור ג".ס.פ משנת 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13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חד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3300" spc="-1" strike="noStrike">
                <a:solidFill>
                  <a:srgbClr val="000000"/>
                </a:solidFill>
                <a:latin typeface="Calibri Light"/>
              </a:rPr>
              <a:t>היחידה במספרים –</a:t>
            </a:r>
            <a:br>
              <a:rPr sz="3300"/>
            </a:br>
            <a:r>
              <a:rPr b="0" lang="he-IL" sz="3300" spc="-1" strike="noStrike">
                <a:solidFill>
                  <a:srgbClr val="000000"/>
                </a:solidFill>
                <a:latin typeface="Calibri Light"/>
              </a:rPr>
              <a:t>נתוני מכלי פינוי אשפה ומיחזור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מכולות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4.5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 קוב 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עגלות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1100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 ליטר 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פחים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360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 ליטר 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950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 י"ח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כלובים לקרטון 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כלובים לפלסטיק 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מחזורית זכוכית 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בשנת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 פינתה המחלקה כ-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3900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 טון אשפה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תמונה 1" descr=""/>
          <p:cNvPicPr/>
          <p:nvPr/>
        </p:nvPicPr>
        <p:blipFill>
          <a:blip r:embed="rId1"/>
          <a:stretch/>
        </p:blipFill>
        <p:spPr>
          <a:xfrm>
            <a:off x="1219320" y="600120"/>
            <a:ext cx="704664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Calibri Light"/>
              </a:rPr>
              <a:t>מועצה מקומית אבו גוש</a:t>
            </a:r>
            <a:br>
              <a:rPr sz="4400"/>
            </a:br>
            <a:r>
              <a:rPr b="1" lang="he-IL" sz="4400" spc="-1" strike="noStrike">
                <a:solidFill>
                  <a:srgbClr val="000000"/>
                </a:solidFill>
                <a:latin typeface="Calibri Light"/>
              </a:rPr>
              <a:t>תקציב המועצה לשנת </a:t>
            </a:r>
            <a:r>
              <a:rPr b="1" lang="he-IL" sz="4400" spc="-1" strike="noStrike">
                <a:solidFill>
                  <a:srgbClr val="000000"/>
                </a:solidFill>
                <a:latin typeface="Calibri Light"/>
              </a:rPr>
              <a:t>201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e-IL" sz="2100" spc="-1" strike="noStrike" u="sng">
                <a:solidFill>
                  <a:srgbClr val="000000"/>
                </a:solidFill>
                <a:uFillTx/>
                <a:latin typeface="Calibri"/>
              </a:rPr>
              <a:t>להלן פירוט הצעת התקציב באלפי ש"ח: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6560" y="2421000"/>
          <a:ext cx="8328240" cy="3830400"/>
        </p:xfrm>
        <a:graphic>
          <a:graphicData uri="http://schemas.openxmlformats.org/drawingml/2006/table">
            <a:tbl>
              <a:tblPr/>
              <a:tblGrid>
                <a:gridCol w="2256120"/>
                <a:gridCol w="3260520"/>
                <a:gridCol w="2811600"/>
              </a:tblGrid>
              <a:tr h="471600"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אחוז מהתקצי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סכום באלפי ש"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הוצא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73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8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כ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712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0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פעול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461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נחות ארנונ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73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פרעון מלו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716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וצאות מימו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73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וצאות מותנ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507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3300" spc="-1" strike="noStrike">
                <a:solidFill>
                  <a:srgbClr val="000000"/>
                </a:solidFill>
                <a:latin typeface="Calibri Light"/>
              </a:rPr>
              <a:t>מחלקת אחזקה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מציין מיקום תוכן 3" descr=""/>
          <p:cNvPicPr/>
          <p:nvPr/>
        </p:nvPicPr>
        <p:blipFill>
          <a:blip r:embed="rId1"/>
          <a:stretch/>
        </p:blipFill>
        <p:spPr>
          <a:xfrm>
            <a:off x="628560" y="1822320"/>
            <a:ext cx="78868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מלבן 1"/>
          <p:cNvSpPr/>
          <p:nvPr/>
        </p:nvSpPr>
        <p:spPr>
          <a:xfrm>
            <a:off x="565200" y="1566720"/>
            <a:ext cx="794232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r>
              <a:rPr b="0" lang="he-I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עובדים משרה מלאה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חשמלאי, אינסטלטור, ריתוך, גבס, צב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צנרת מים, צבע, בנייה, ריצוף, יריעות, ביו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בנייה, ריצוף, צבע, יריעות, צנרת מים, גבס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טרקטוריסט, גינון (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/2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משרה אחזקה ½ תברואה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גנן – ניקוי רחובות, גזם, ריסוס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טרקטוריסט, גינון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Arial Unicode MS"/>
                <a:cs typeface="Arial Unicode MS"/>
              </a:rPr>
              <a:t>ספקים חיצונים</a:t>
            </a:r>
            <a:r>
              <a:rPr b="0" lang="he-I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קבלן ביוב , קבלן חשמל לתאורת רחוב, קבלן שילוט רחובות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ספקי חומרי בניין, ניקיו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תחומים המרכזיים בהם פועלת המחלקה כדי להשיג את יעדיה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4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אחזקת מוסדות חינוך, ציבור, מבני מועצ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4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תשתיות ביו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4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גינו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4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אחזקת חשמל מבני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4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תאורת רחו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4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תשתיות כביש, מעקות ומדרכו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4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מדידות למחלקת הנדס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4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התקנה ואחזקה תחנות אוטובו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4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מחסני מל"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4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ניהו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e-IL" sz="3300" spc="-1" strike="noStrike">
                <a:solidFill>
                  <a:srgbClr val="ed7d31"/>
                </a:solidFill>
                <a:latin typeface="Arial Unicode MS"/>
                <a:cs typeface="Arial Unicode MS"/>
              </a:rPr>
              <a:t>תחומי ליבה של המחלקה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מלבן 1"/>
          <p:cNvSpPr/>
          <p:nvPr/>
        </p:nvSpPr>
        <p:spPr>
          <a:xfrm>
            <a:off x="484200" y="1720800"/>
            <a:ext cx="7485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מספרים המבטאים את היקפי הפעילות והעשייה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של המחלקה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אחזקת מבנים: 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6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גני ילדים,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בי"ס, מתנ"ס,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2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מסגדים, טיפת חלב, אולם ספורט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חשמל: כ 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000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עמודי תאורת רחוב. 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7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מרכזיות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2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תחנות אוטובוס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6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גנים ציבוריים סה"כ כ-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3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דונ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26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מתקנים משחקי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כ 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200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מ"ר מעקות ברזל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כ 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20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אלף מ"ר מדרכות משתלבות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ביוב: שכונת מצפה ומוסדות חינו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5549760"/>
            <a:ext cx="655452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 Light"/>
              </a:rPr>
              <a:t>אבו גוש הצעת תקציב </a:t>
            </a:r>
            <a:r>
              <a:rPr b="0" lang="he-IL" sz="1200" spc="-1" strike="noStrike">
                <a:solidFill>
                  <a:srgbClr val="000000"/>
                </a:solidFill>
                <a:latin typeface="Calibri Light"/>
              </a:rPr>
              <a:t>2017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92320" y="592200"/>
          <a:ext cx="6418080" cy="4957560"/>
        </p:xfrm>
        <a:graphic>
          <a:graphicData uri="http://schemas.openxmlformats.org/drawingml/2006/table">
            <a:tbl>
              <a:tblPr/>
              <a:tblGrid>
                <a:gridCol w="1927080"/>
                <a:gridCol w="233280"/>
                <a:gridCol w="3343320"/>
                <a:gridCol w="914400"/>
              </a:tblGrid>
              <a:tr h="366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ריכוז הוצאות שכ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שרו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ם הסעיף / הסב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9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63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כר כלל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63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כר חינו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76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</a:t>
                      </a: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כר רווח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 כלל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93" name="מלבן 7"/>
          <p:cNvSpPr/>
          <p:nvPr/>
        </p:nvSpPr>
        <p:spPr>
          <a:xfrm>
            <a:off x="3182760" y="3244680"/>
            <a:ext cx="27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Calibri"/>
              </a:rPr>
              <a:t>אבו גוש הצעת תקציב </a:t>
            </a:r>
            <a:r>
              <a:rPr b="0" lang="he-IL" sz="1800" spc="-1" strike="noStrike">
                <a:solidFill>
                  <a:srgbClr val="000000"/>
                </a:solidFill>
                <a:latin typeface="Calibri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33280" y="-6480"/>
          <a:ext cx="8767800" cy="7123320"/>
        </p:xfrm>
        <a:graphic>
          <a:graphicData uri="http://schemas.openxmlformats.org/drawingml/2006/table">
            <a:tbl>
              <a:tblPr/>
              <a:tblGrid>
                <a:gridCol w="2678040"/>
                <a:gridCol w="141480"/>
                <a:gridCol w="4038480"/>
                <a:gridCol w="1909800"/>
              </a:tblGrid>
              <a:tr h="268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David"/>
                        </a:rPr>
                        <a:t>ריכוז שכר כללי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68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000000"/>
                          </a:solidFill>
                          <a:latin typeface="Arial"/>
                          <a:cs typeface="David"/>
                        </a:rPr>
                        <a:t>משרו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000000"/>
                          </a:solidFill>
                          <a:latin typeface="Arial"/>
                          <a:cs typeface="David"/>
                        </a:rPr>
                        <a:t>שם הסעיף / הסב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000000"/>
                          </a:solidFill>
                          <a:latin typeface="Arial"/>
                          <a:cs typeface="David"/>
                        </a:rPr>
                        <a:t>סעי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3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שכר הנהלת הרשות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6111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שכר מבקר פנימ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6120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3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שכר מזכירות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6130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3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שכר גזברות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6211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שכר גבייה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6230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62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שכר שרותי ניקיון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7122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שכר תברואה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7123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34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שכר קב"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7221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שכר הנדסה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7310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שכר פיקוח ורישוי עסקים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733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34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1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שכר אחזקה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7410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3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יחידה לקידום נוער - מרכז השכלה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8280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2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cs typeface="David"/>
                        </a:rPr>
                        <a:t>תשלומי פנסיה כולל רצף זכויו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999-1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65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David"/>
                        </a:rPr>
                        <a:t>                </a:t>
                      </a:r>
                      <a:r>
                        <a:rPr b="1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David"/>
                        </a:rPr>
                        <a:t>39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Davi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Davi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David"/>
                        </a:rPr>
                        <a:t>סה"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666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2708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420840"/>
          <a:ext cx="7759440" cy="6581520"/>
        </p:xfrm>
        <a:graphic>
          <a:graphicData uri="http://schemas.openxmlformats.org/drawingml/2006/table">
            <a:tbl>
              <a:tblPr/>
              <a:tblGrid>
                <a:gridCol w="2371680"/>
                <a:gridCol w="123840"/>
                <a:gridCol w="3573360"/>
                <a:gridCol w="1690560"/>
              </a:tblGrid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ריכוז שכר חינו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שרו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ם הסעיף / הסב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עי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מינהל חינוך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10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רכז גני ילדים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21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גנ"י חובה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22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גנ"י טרום חובה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23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בתי ספר יסוד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32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בתי ספר יסודי השלום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321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סייעות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33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בי"ס הארמון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333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מורי תיכון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52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קב"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71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שפ"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73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משכורת ושכר עבודה -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77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קב"ס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מלוות בהסעות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78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רכז מצילה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79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             </a:t>
                      </a:r>
                      <a:r>
                        <a:rPr b="0" lang="he-IL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09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סה"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Calibri Light"/>
              </a:rPr>
              <a:t>באבו גוש התושב במרכז</a:t>
            </a: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025720" y="782640"/>
          <a:ext cx="5307120" cy="5151600"/>
        </p:xfrm>
        <a:graphic>
          <a:graphicData uri="http://schemas.openxmlformats.org/drawingml/2006/table">
            <a:tbl>
              <a:tblPr/>
              <a:tblGrid>
                <a:gridCol w="1677960"/>
                <a:gridCol w="58680"/>
                <a:gridCol w="2529000"/>
                <a:gridCol w="1041480"/>
              </a:tblGrid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ריכוז שכר רווח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960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שרו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ם הסעיף / הסב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9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עי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מינהל רווחה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10-1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96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טיפול בילד ובנוע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35-1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מרכזי ועדות חוק סיעוד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44-1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טיפול נערות במצוקה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712-1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14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                 </a:t>
                      </a:r>
                      <a:r>
                        <a:rPr b="0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8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                               </a:t>
                      </a:r>
                      <a:r>
                        <a:rPr b="0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-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סה"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912080" cy="516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4800" spc="-1" strike="noStrike">
                <a:solidFill>
                  <a:srgbClr val="000000"/>
                </a:solidFill>
                <a:latin typeface="Calibri Light"/>
              </a:rPr>
              <a:t>הגידול בהוצאות שכר של עובדי הרשויות המקומיות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63400" y="120600"/>
            <a:ext cx="807912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בשנת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נחתמו הסכמים קיבוציים לעובדי הרשויות המקומיו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אשר ישפיעו על עלות השכר בשנת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2017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ובשנים שלאחר מכן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e-IL" sz="2600" spc="-1" strike="noStrike">
                <a:solidFill>
                  <a:srgbClr val="000000"/>
                </a:solidFill>
                <a:latin typeface="Calibri"/>
              </a:rPr>
              <a:t>סקירת ההסכמים שנחתמו לפי סדר כרונולוגי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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הסכם קיבוצי מסגרת מיום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20/3/16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למורים בשיעור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6%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. מנגנו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שיפוי כמקובל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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הסכם קיבוצי מסגרת מיום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18/4/16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לכלל המשק בשיעור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7.5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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הסכם קיבוצי מסגרת מיום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18/4/16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בשיעור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2%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e-IL" sz="2600" spc="-1" strike="noStrike">
                <a:solidFill>
                  <a:srgbClr val="000000"/>
                </a:solidFill>
                <a:latin typeface="Calibri"/>
              </a:rPr>
              <a:t>נוספים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לשלטו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המקומ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28480" y="673200"/>
          <a:ext cx="7907400" cy="5476680"/>
        </p:xfrm>
        <a:graphic>
          <a:graphicData uri="http://schemas.openxmlformats.org/drawingml/2006/table">
            <a:tbl>
              <a:tblPr/>
              <a:tblGrid>
                <a:gridCol w="2141640"/>
                <a:gridCol w="3097440"/>
                <a:gridCol w="2668320"/>
              </a:tblGrid>
              <a:tr h="684000"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אחוז מהתקצי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סכום באלפי ש"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הכנס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4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כנסות עצמי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4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נחות ארנונ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58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שרדים יעודיים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4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ענקים לאיזו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4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משלה אחרי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58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כנסות מותנ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4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מלבן 2"/>
          <p:cNvSpPr/>
          <p:nvPr/>
        </p:nvSpPr>
        <p:spPr>
          <a:xfrm>
            <a:off x="738360" y="865080"/>
            <a:ext cx="7758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סכם קיבוצי מסגרת מיום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8/4/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לפאראפואיים בשיעו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0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בסה"כ. מנגנון שיפוי כמקוב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סכם קיבוצי מסגרת מיום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8/4/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לפסיכולוגים בשיעו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5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בסה"כ. מנגנון שיפוי כמקוב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סכם קיבוצי מסגרת מיום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8/4/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ללבורנטים בשיעו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5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. מנגנון שיפוי כמקובל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סכם קיבוצי מיום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3/6/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לעובדי הוועדות המקומיו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לתכנון ובניה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מלבן 2"/>
          <p:cNvSpPr/>
          <p:nvPr/>
        </p:nvSpPr>
        <p:spPr>
          <a:xfrm>
            <a:off x="609480" y="1117440"/>
            <a:ext cx="7983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ביום ה-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8/4/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נחתם הסכם קיבוצי בין מרכז השלטו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מקומי, שלוש הערים הגדולות ומרכז המועצות האזוריו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לבין ההסתדרות בדבר הקצאת מסגרת עלות נוספת ש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תוספות שכר והטבות כספיות בשיעור ש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, )נוסף ל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7.5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מסגרת של כלל המשק שנחתם באותו היום(, לטוב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שיפור שכרם של העובדים הפעילים בעלי השכר הנמוך וכ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וסכם על העסקת עובדים בחוזים אישיים בשיעור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5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מלבן 2"/>
          <p:cNvSpPr/>
          <p:nvPr/>
        </p:nvSpPr>
        <p:spPr>
          <a:xfrm>
            <a:off x="0" y="1166760"/>
            <a:ext cx="8623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הסכם יחול על העובדים בדירוגים הבאים: דירוג מנהלי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חינוך, נוער, חברה וקהילה, דירוג מהנדסים, דירוג המח"ר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דירוג טכנאים והנדסאים, דירוג עובדים סוציאליים למעט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פסיכולוגי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עובדים, על כל דירוגיהם, המועסקים בבתי החולים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לבורנטי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עובדים בוועדות מקומיות לתכנון ובני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מצילי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מלבן 2"/>
          <p:cNvSpPr/>
          <p:nvPr/>
        </p:nvSpPr>
        <p:spPr>
          <a:xfrm>
            <a:off x="216000" y="1260360"/>
            <a:ext cx="8751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ביום ה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4/7/16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נחתם הסכם קיבוצי בדבר אופן חלוקת הקצא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העלות בשיעור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2%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וה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7.5%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של הסכם המסגרת. סוכם כדלקמן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1b7fe"/>
                </a:solidFill>
                <a:latin typeface="Candara,Bold"/>
              </a:rPr>
              <a:t>.</a:t>
            </a:r>
            <a:r>
              <a:rPr b="1" lang="he-IL" sz="2400" spc="-1" strike="noStrike">
                <a:solidFill>
                  <a:srgbClr val="31b7fe"/>
                </a:solidFill>
                <a:latin typeface="Candara,Bold"/>
              </a:rPr>
              <a:t>1</a:t>
            </a:r>
            <a:r>
              <a:rPr b="1" lang="he-IL" sz="2400" spc="-1" strike="noStrike">
                <a:solidFill>
                  <a:srgbClr val="31b7fe"/>
                </a:solidFill>
                <a:latin typeface="Candara,Bold"/>
              </a:rPr>
              <a:t> </a:t>
            </a:r>
            <a:r>
              <a:rPr b="1" lang="he-IL" sz="2400" spc="-1" strike="noStrike">
                <a:solidFill>
                  <a:srgbClr val="073e87"/>
                </a:solidFill>
                <a:latin typeface="Arial,Bold"/>
              </a:rPr>
              <a:t>תוספת מעו"ף/ תוספת מח"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החל מיום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.7.2016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תעודכן תוספת המעו"ף/ תוספת מח"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כהגדרתה בהסכם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2012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ותשולם כמפורט להלן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בדרגות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4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עד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7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+ תגדל התוספת מ</a:t>
            </a:r>
            <a:r>
              <a:rPr b="0" lang="he-IL" sz="24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410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₪ ל</a:t>
            </a:r>
            <a:r>
              <a:rPr b="0" lang="he-IL" sz="24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850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בדרגות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8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8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+ תעמוד התוספת על סך של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700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.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בדרגות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9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9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+ תעמוד התוספת על סך של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500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בדרגות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0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0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+ תעמוד התוספת על סך של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300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בדרגה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1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1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+ תעמוד התוספת על סך של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50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מלבן 3"/>
          <p:cNvSpPr/>
          <p:nvPr/>
        </p:nvSpPr>
        <p:spPr>
          <a:xfrm>
            <a:off x="166680" y="1082520"/>
            <a:ext cx="8801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חל מיום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1.2.2017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תעודכן תוספת המעוף/ תוספת מח"ר ושיעוריה יהי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כדלקמן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בדרגו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4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- +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000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בדרגו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7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7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- +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950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בדרגו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8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8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- +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750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בדרגו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9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9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- +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600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בדרגו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0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0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- +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400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בדרגה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1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1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- +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0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1" lang="he-IL" sz="2800" spc="-1" strike="noStrike">
                <a:solidFill>
                  <a:srgbClr val="073e87"/>
                </a:solidFill>
                <a:latin typeface="Arial,Bold"/>
              </a:rPr>
              <a:t>למען הסר ספק, תוספת המעו"ף / מח"ר מתקזז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73e87"/>
                </a:solidFill>
                <a:latin typeface="Arial,Bold"/>
              </a:rPr>
              <a:t>משכר המינימו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תוספת המעו"ף מהווה מיצוי ש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.6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מתוך ה-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9.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מלבן 2"/>
          <p:cNvSpPr/>
          <p:nvPr/>
        </p:nvSpPr>
        <p:spPr>
          <a:xfrm>
            <a:off x="520560" y="1859040"/>
            <a:ext cx="8386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החל מיום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/1/2017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תשולם תוספת שכר בשיעור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0%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מהשכ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המשולב הטבלאי לעובדים בתפקידים הבאים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מזכירות בתי ספר לרבות מינהלן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אחראי למשק ותחזוקה )שרת/ אב בית( בבתי הספר ובמתנ"סי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חשב </a:t>
            </a:r>
            <a:r>
              <a:rPr b="0" lang="he-IL" sz="2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עובד בדירוג המח"ר, הממלא תפקיד של חשב בכל יחיד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ארגונית מן הסוג הבכיר ביותר ברשו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buClr>
                <a:srgbClr val="073e87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פקחי חניה </a:t>
            </a:r>
            <a:r>
              <a:rPr b="0" lang="he-IL" sz="2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עובדים שעוסקים בפועל באכיפת דיני החניה, שמתח הדרגות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6-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מלבן 3"/>
          <p:cNvSpPr/>
          <p:nvPr/>
        </p:nvSpPr>
        <p:spPr>
          <a:xfrm>
            <a:off x="255600" y="1582560"/>
            <a:ext cx="8377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תוספת ענפי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7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תהווה שכר לכל דבר ועניין לרבו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לחישוב ערך השעה לצורך תשלום גמול עבור עבודה נוספת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כוננויות, משמרות, קריאות פתע, לעניין גמלאות ולעניי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פרשות לקופת גמל לקצבה ולפיצויי פיטורים כמשמעות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בחוק פיצויי פיטורים, תשכ"ג -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963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מלבן 2"/>
          <p:cNvSpPr/>
          <p:nvPr/>
        </p:nvSpPr>
        <p:spPr>
          <a:xfrm>
            <a:off x="295200" y="1166760"/>
            <a:ext cx="8632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73e87"/>
                </a:solidFill>
                <a:latin typeface="Arial,Bold"/>
              </a:rPr>
              <a:t>עדכון תוספת ניהול ל"עובדים חדשים"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החל מ </a:t>
            </a:r>
            <a:r>
              <a:rPr b="0" lang="he-IL" sz="2400" spc="-1" strike="noStrike">
                <a:solidFill>
                  <a:srgbClr val="ff0000"/>
                </a:solidFill>
                <a:latin typeface="Arial"/>
              </a:rPr>
              <a:t>1/2/17</a:t>
            </a:r>
            <a:r>
              <a:rPr b="0" lang="he-I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תעודכן תוספת הניהול כדלקמן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מ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5%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ל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7.5%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ברמה הראשונ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מ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7.5%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ל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0%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ברמה השני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מ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0%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ל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2.5%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ברמה השלישי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להגדרת כפיף יבואו במניין גם עובדי קבלן וכ"א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בנוסף יהיה זכאי לתוספת ניהול רמה ראשונה )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7.5%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(, עובד שהוא בע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תואר ראשון )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.A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.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(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בכלכלה או בחשבונאות, שתנאי סף למשרתו הינ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תואר מוכר כאמור, ושמתח הדרגות הצמוד לתפקידו הוא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40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42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)+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ומעלה, גם אם תפקידו אינו כולל אחריות ניהולית ישירה על עובדי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תוספת הניהול מהווה מיצוי של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0.1%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מתוך ה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9.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מלבן 2"/>
          <p:cNvSpPr/>
          <p:nvPr/>
        </p:nvSpPr>
        <p:spPr>
          <a:xfrm>
            <a:off x="166680" y="1028880"/>
            <a:ext cx="8642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00000"/>
              </a:lnSpc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חל מיום 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1.1.2017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גובה השתתפות המעסיק בדמי החב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למועדון שלך בגין עובד עליו חל הסכם זה, ואשר מועסק אצ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מעסיק מעל שלושה חודשים ומעל לרבע משרה בחודש מא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של שנת התשלום, יעמוד על סך ש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33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₪ לשנה קלנדרי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(בשנ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עמד על 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68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שח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מועדון שלך מהווה מיצוי ש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0.1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מתוך ה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9.5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עוד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0.1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למועדון שלך ניתן ע"ח המעסיקים מעל ל-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9.5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מלבן 2"/>
          <p:cNvSpPr/>
          <p:nvPr/>
        </p:nvSpPr>
        <p:spPr>
          <a:xfrm>
            <a:off x="344520" y="1444680"/>
            <a:ext cx="8602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סוכם ע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3.3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אחוזי ו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3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שקלי בפעימות במועדים מע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שונים וכדלקמן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buClr>
                <a:srgbClr val="31b7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חל מה- 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1.3.2017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יעמוד סכום התוספת השקלי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לעובדים בדירוג המנהלי על סך ש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37.4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₪. שיעור  התוספת האחוזי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יעמוד ע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0.925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אחוז מהשכר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חל מה- 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1.2.2018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יעמוד סכום התוספת השקלי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לעובדים בדירוג המנהלי על סך ש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82.2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₪. שיעו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תוספת האחוזי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יעמוד ע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.675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אחוז מהשכר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9144000" cy="9563040"/>
        </p:xfrm>
        <a:graphic>
          <a:graphicData uri="http://schemas.openxmlformats.org/drawingml/2006/table">
            <a:tbl>
              <a:tblPr/>
              <a:tblGrid>
                <a:gridCol w="1380960"/>
                <a:gridCol w="1379880"/>
                <a:gridCol w="1380960"/>
                <a:gridCol w="1379520"/>
                <a:gridCol w="1128600"/>
                <a:gridCol w="2494080"/>
              </a:tblGrid>
              <a:tr h="280800">
                <a:tc gridSpan="5"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השוואת תקציב מול ביצוע לשנים </a:t>
                      </a: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5-2017</a:t>
                      </a: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באלפי ש"ח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הוצא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צעת תקצי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בצוע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תקציב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בצוע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תקציב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כלל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3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כר כלל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פעולות כללי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נחות ארנונ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חינו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0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9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4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כ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פעול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4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0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רווח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כ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פעול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6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פרעון מלו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וצאות מימו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וצאות חד פעמי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וצאות מותנ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8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5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5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 הוצא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מלבן 2"/>
          <p:cNvSpPr/>
          <p:nvPr/>
        </p:nvSpPr>
        <p:spPr>
          <a:xfrm>
            <a:off x="0" y="1305000"/>
            <a:ext cx="8897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חל מה- 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1.6.2018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יעמוד סכום התוספת השקלי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לעובדים בדירוג המנהלי על סך ש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34.62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₪. שיעו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תוספת האחוזי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יעמוד ע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.55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אחוז מהשכר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חל מה- 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1.2.2019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יעמוד סכום התוספת השקלי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לעובדים בדירוג המנהלי על סך ש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79.49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₪. שיעו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תוספת האחוזי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יעמוד ע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3.3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אחוז מהשכר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תוספת האחוזי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והתוספת השיקלי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לגב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דירוג המח"ר תסוכם בהמשך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מלבן 2"/>
          <p:cNvSpPr/>
          <p:nvPr/>
        </p:nvSpPr>
        <p:spPr>
          <a:xfrm>
            <a:off x="3289320" y="2787480"/>
            <a:ext cx="32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David"/>
                <a:cs typeface="David"/>
              </a:rPr>
              <a:t>תודה</a:t>
            </a:r>
            <a:r>
              <a:rPr b="0" lang="he-I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072720" cy="7029360"/>
        </p:xfrm>
        <a:graphic>
          <a:graphicData uri="http://schemas.openxmlformats.org/drawingml/2006/table">
            <a:tbl>
              <a:tblPr/>
              <a:tblGrid>
                <a:gridCol w="1382760"/>
                <a:gridCol w="1382760"/>
                <a:gridCol w="1382760"/>
                <a:gridCol w="1380960"/>
                <a:gridCol w="1125720"/>
                <a:gridCol w="241776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הכנס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ארנונ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יתר עצמי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עצמיות חינו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עצמיות רווח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נחות ארנונ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8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3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6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4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6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8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שרד חינו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שרד רווח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אחרים ממשל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6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ענק כלל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8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אחרים משרד הפני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עודפים שנה קודמ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כנסה מותנ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15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3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29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98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58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 הכנס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6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3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עודף (גרעון) שוט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0"/>
          <a:ext cx="9144000" cy="11185560"/>
        </p:xfrm>
        <a:graphic>
          <a:graphicData uri="http://schemas.openxmlformats.org/drawingml/2006/table">
            <a:tbl>
              <a:tblPr/>
              <a:tblGrid>
                <a:gridCol w="1542960"/>
                <a:gridCol w="1543320"/>
                <a:gridCol w="1542960"/>
                <a:gridCol w="1579320"/>
                <a:gridCol w="2935440"/>
              </a:tblGrid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3"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תשלומים לפי פרק תקציב </a:t>
                      </a: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7</a:t>
                      </a: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בהשוואה לתקציב </a:t>
                      </a: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אחוזים מ-</a:t>
                      </a: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תקציב </a:t>
                      </a: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אחוזים מ-</a:t>
                      </a: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תקציב </a:t>
                      </a: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הנהלה כללי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59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17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נהל כלל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85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05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נהל כספ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וצאות מימ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33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14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פרע"מ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17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86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 הנהלה כללי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שרותים מקומי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39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07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תברוא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8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6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מירה וביטח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93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45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תכנון ובניין עי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1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28,9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נכסים ציבורי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2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6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רותים שונ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פיקוח עירו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92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32,9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 שרותים מקומי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שרותים ממלכתי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487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091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ינו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4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83,7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תרבות-כולל מותנ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בריאו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658,7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14,8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ווח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ד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איכות הסביב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917,7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721,56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 שרותים ממלכתי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מפעל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ביו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7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תשלומים בלתי רגיל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16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31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נחות ארנונ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923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51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 מפעל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       </a:t>
                      </a: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50,149,7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0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       </a:t>
                      </a: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53,291,46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סה"כ כלל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60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18249840"/>
        </p:xfrm>
        <a:graphic>
          <a:graphicData uri="http://schemas.openxmlformats.org/drawingml/2006/table">
            <a:tbl>
              <a:tblPr/>
              <a:tblGrid>
                <a:gridCol w="1882800"/>
                <a:gridCol w="1225440"/>
                <a:gridCol w="1724040"/>
                <a:gridCol w="1081080"/>
                <a:gridCol w="2741760"/>
                <a:gridCol w="488880"/>
              </a:tblGrid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3"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תקבולים לפי פרק תקציב </a:t>
                      </a: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7</a:t>
                      </a: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בהשוואה לתקציב </a:t>
                      </a: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אחוזים מ- </a:t>
                      </a: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תקציב </a:t>
                      </a: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אחוזים מ- </a:t>
                      </a: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תקציב </a:t>
                      </a: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שם הפר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מיסים ומענק כלל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0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0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ארנונ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16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31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נחות ארנונ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אגרו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116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68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602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ענק כלל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,3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85,3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שרד הפנים אחרי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26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457,3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688,3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 מיסים ומענק כלל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תקבולים משרותים מקומיי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תברואה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מירה ובטחו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0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תכנון ובניין עי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נכסים ציבוריי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09,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55,9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רותים שונים והשתתפויו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פיקוח עירונ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59,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84,9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 שרותים מקומיי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תקבולים משרותים ממלכתיי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152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236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06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ינו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,7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תרבות כולל מותנ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69,9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70,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ווח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איכות הסביב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26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340,9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422,2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 שרותים ממלכתיי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מפעלי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י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5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22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ביו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92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96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 תקבולים ממפעלי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26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0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       </a:t>
                      </a: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50,149,7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   </a:t>
                      </a: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53,291,4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סה"כ כלל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e-IL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1" name="מציין מיקום של תמונה 4" descr=""/>
          <p:cNvPicPr/>
          <p:nvPr/>
        </p:nvPicPr>
        <p:blipFill>
          <a:blip r:embed="rId1"/>
          <a:srcRect l="12661" t="0" r="12661" b="0"/>
          <a:stretch/>
        </p:blipFill>
        <p:spPr>
          <a:xfrm>
            <a:off x="3887640" y="977760"/>
            <a:ext cx="4629240" cy="4873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000" y="2057040"/>
            <a:ext cx="2949480" cy="34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תמונה 5" descr=""/>
          <p:cNvPicPr/>
          <p:nvPr/>
        </p:nvPicPr>
        <p:blipFill>
          <a:blip r:embed="rId2"/>
          <a:stretch/>
        </p:blipFill>
        <p:spPr>
          <a:xfrm>
            <a:off x="630360" y="457200"/>
            <a:ext cx="83343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6840" y="1428480"/>
            <a:ext cx="818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 u="sng">
                <a:solidFill>
                  <a:srgbClr val="000000"/>
                </a:solidFill>
                <a:uFillTx/>
                <a:latin typeface="Calibri"/>
              </a:rPr>
              <a:t>תחומי ליבה של מחלקת החינו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קידום וליווי צוותי ניהול וקידום מקצועי של עובדי ההוראה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קיום חוק לימוד חובה ומניעת נשירה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הפעלת תוכניות תגבור לימודי/ העשרה והעלאת הישגי התלמידים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פיתוח סביבות לימודיות בגנים ובבתי"ס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חינוך מיוחד וועדות השמה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הגברת המערך המסייע – תומך מערכת החינוך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הכנסות עצמיות- תקנים, מצבת תלמידים ומעקב מול משרד החינוך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ניהול כח אדם, אספקה ואחזקה חומרית/ פיזית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פיתוח פיזי למבני חינוך/ חדשים/ קיים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6:31:41Z</dcterms:created>
  <dc:creator>איתן</dc:creator>
  <dc:description/>
  <dc:language>en-US</dc:language>
  <cp:lastModifiedBy>user</cp:lastModifiedBy>
  <cp:lastPrinted>2016-11-20T08:25:45Z</cp:lastPrinted>
  <dcterms:modified xsi:type="dcterms:W3CDTF">2017-02-20T19:20:38Z</dcterms:modified>
  <cp:revision>85</cp:revision>
  <dc:subject/>
  <dc:title>אבו גוש תקציב 2017</dc:title>
</cp:coreProperties>
</file>